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33F6-7857-4BE4-B5A5-5707D397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E0CD-F6B5-4A61-BE6A-06BDBC8F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96CD-0A21-470F-9086-77D64B02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1339-CA99-4BB5-AA2F-D605EB30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A6DA-6C7C-460D-B38A-A70513EE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3ABF-73E5-4256-8ED9-895F9763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D129-EF38-4BA4-ABF4-624954E0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D376-83C2-4A72-BE55-538E012D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4692-806D-489D-9B7F-B07BA7CB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5C21-9FFA-442F-9C97-C3E79EAE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CFA9-75D3-409E-A93B-A49B5F7B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3D39-7843-450C-9789-8BF9939E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A776-7D74-41A1-B902-70594D1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FC4B-2011-4C42-8C66-4BD0351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C78-B8B7-4C8B-9F7B-D7312835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5A5E-D1D8-4940-AC7F-D88DC437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867-69E9-4CDA-90B8-26DBFCFB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4A57-6001-45AC-947E-59F8ABFD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E411-6A14-4D89-9FF7-1FF21D57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0BD2-3B97-4083-838C-02D04C26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47FF-5509-4650-AE5C-CC4DF14E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ED46-F1D5-4024-AF26-716B8D4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4465-6A80-4FAB-AFF3-F6EB4145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C985-5B8D-4ADD-9B56-6CA4AE4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81D2-7A7A-40C0-BF5B-DBB317B9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5027-4859-4060-8E88-026E32D48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Effectiveness of RES-E projects – examples of sample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03280" y="2997000"/>
            <a:ext cx="68407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rosla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ech Technical University in Prague (C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U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9CCA-0B57-4E81-A370-E44A31839C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23640" y="990720"/>
            <a:ext cx="85770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ce between money inflow and outflow in given y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l discount – time value of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assessmen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≥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rate of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yback period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3348000" y="1052640"/>
                <a:ext cx="2952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2627280" y="4076640"/>
                <a:ext cx="3168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ž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ž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R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3348000" y="5734080"/>
                <a:ext cx="1728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!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E6BF-9656-4EB8-939F-3764A1E5C9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price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7280" y="3573360"/>
            <a:ext cx="72835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=0 means that production is sold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ce and investor gains rate of return equal to discount rat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rk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.. Loss for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1332000" y="1125360"/>
                <a:ext cx="29527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4716360" y="1197000"/>
                <a:ext cx="3600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908000" y="2421000"/>
                <a:ext cx="5639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1E1D-C587-4E43-BF13-91A94CF789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versus constant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ors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respects real conditions of project real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lation, cost growth – different cost items have different growth ra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y of tax calculation and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equate value of depreciations as the tax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ant prices used for NPV and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ms easier – no assumptions on cost and revenue growth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id tax is calculated from revenues and costs in given year (nominal 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eans that zero growth is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reciations as significant part of cost has higher importance than is adequate (creates tax shie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serve only as informative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316E-6885-48CA-98FB-B1F96F8DAB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price of production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ersus levelis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Tž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ity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p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me of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of capital (WA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ly used for economic comparison of differen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n’t mean „price“ required by inv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ogy of constant price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574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1371600" y="129528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</m:t>
                        </m:r>
                        <m:r>
                          <m:t xml:space="preserve">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ž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40384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295280"/>
                <a:ext cx="19810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ž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ž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ž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0563-6863-46C6-9F95-558AAE3FA0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versus constant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ors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respects real conditions of project real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lation, cost growth – different cost items have different growth ra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y of tax calculation and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equate value of depreciations as the tax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ant prices used for NPV and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ms easier – no assumptions on cost and revenue growth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id tax is calculated from revenues and costs in given year (nominal 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eans that zero growth is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reciations as significant part of cost has higher importance than is adequate (creates tax shie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serve only as informative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E60C-2F4F-43CD-9BD4-7C57657A4E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 of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7570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value of money – opportunity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rate of return by the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minal discount: risk free return, risk premium,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 risk means higher 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pes of ri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uctuation of weather conditio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tural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tical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835280" y="2421000"/>
                <a:ext cx="4537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80F5-3FD8-4357-BEDC-33FAB20B9B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ing of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93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ount should reflect risk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risk of business in RES-E project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risk for all type of projects the sam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 for electricity generation versus hea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 example of the Czech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risk in RES-E project ? Is it different from natural monopilst position, e.g. electricity distribu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% of discount used for feed-in tariff calculation, is it adequate valu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the meaning of this 7%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7972-443E-45E0-83E9-2111D629A3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 of discount as W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7859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wo ways how to calculate feed-in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ors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e typical financing – share of bank loan, interest rate, repayment period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iscount rate based on rate of return on equity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what is typical financing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int of view of total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ucture o financing is not solved (taken into ac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count has meaning of WACC – weighted average cost of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equity (own ca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debt (external ca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cost of external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tax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return on own capit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340000" y="3789360"/>
                <a:ext cx="48988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C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∗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44F2-FD19-4A38-852D-8110D48471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 of discount as WACC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570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effect – debt financing is increasing rate of return on equity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% of discount as WACC means typically more than 10% of return on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 of bigger companies with capital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have return when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investment is financed by loa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924360" y="3094200"/>
          <a:ext cx="5040360" cy="3328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3094200"/>
                    <a:ext cx="504036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D5B8-D53C-4062-B668-AD3C07FC3C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ed inputs for analysis of economic effectiveness of RES-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5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inpu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 period (derived from physical lifetime of key part of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increase expec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nue increase expec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of financing (equity, loans, subsidie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men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 investment + investment during project lifetim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ic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ed investments (infrastructure, access r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d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ommissioning co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9A4F-C794-4202-9AB2-775A667560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OF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9644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onomic decision of investors (R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investors decide to invest into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return as the main target of inv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model of a project as the basis of investment appra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sh flow and NPV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pects (viewpoints) of economic appra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sion of non economic effects into “system”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ing of discount, proper setting of it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l versus constant prices, differences betw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 of input data for NPV calculation (RES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 of financing and its impact on rate of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iveness of RES-E project – case calcul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 technical and economic indicators of RES-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proper assumptions for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different assumptions on minimum price of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4D89-C354-4CEC-88AA-5ABFB3768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ed inputs for analysis of economic effectiveness of RES-E project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5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perat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el cost (e.g. biomass), sometimes can be negative (waste proces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her fuel and 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pair and maintenance (ussualy can be expressed as % of invest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bour cost (in RES-E projects typically has low sh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her financial cost (land rent, insurance, compensation to municipalities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xpenses related to the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est paytment and redemption of 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asing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tilization of insta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y factor in RES-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tilization of originating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6A1B-5704-451D-AC9D-9D40C4D482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ed economic paramete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different RES-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5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-E technologies: Big differences in investment, operational cost and utilization of installed capa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projects using the same technology can differ in investment costs significa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mall hy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cost in th. EUR/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,5-3% of investment (smaller has higher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tilization of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and medium: 3000-450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: 5000-600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minal 30 years, real with increased maintenance c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1752480" y="3505320"/>
            <a:ext cx="7010640" cy="112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864D-5E83-43F0-85C8-118780E467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ed economic paramete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different RES-E technologie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nd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cost: 900-1100 EUR/kW  (technology, construction 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st: 20-25% of present value of tot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urance, maintenance,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and grid connection: can be significant part of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ČR: total investment in range 1250-1350 EUR/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tilization of installed capacity: given by condition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ČR: 1800-1900 hour/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: 2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volta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900 EUR/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st: 1-1.5% (insurance, mainten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tilization of installed capacity: 950-1000 hours (geographical lat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price higher 4.5-6 x than for other 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52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6290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7E0E-B1E0-46F9-94BB-EC0540BB6B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ed economic paramete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different RES-E technologie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18592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4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352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wage and landfill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ization of existing infrastructure, typically hundreds of kW at m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estment cost: 1750 EUR/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ational cost: 4-5% of investment (without cost of 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ear utilization: typically very high 7000-800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time: 1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gas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y for biogas production is significant part of investmen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cost: up to 5000 E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 cost: similar, fuel cost can be positive or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ear utilization: over 7000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fetime: 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 of utilization of originating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A340-B619-4D9A-ACAD-E2C0FB91F3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ed economic paramete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different RES-E technologie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52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18592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f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most no investment, utilization of existing infrastructure at coal fired power plants with fluid boi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st: bioma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el cost: extra cost – difference of biomass price (2,5-3,5 EUR/GJ) and coal price (1,4 EUR/G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blems with long term contracts for bio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ve emission allow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clusive biomass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cost: 1750 EUR/G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st: 5-6% of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fetime: 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blem with utilization of originating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F5B7-CA24-46CB-A96A-64F845BBCF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 example of calculation of economic effectiveness of RES-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552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8592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4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 wind power plant in CZ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of CF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ed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discoun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different ways of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PV is positive but CF in first years is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ant prices versus nominal prices – demonstration of differences i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9ECC-24F6-489A-B325-1138C8CB6B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9900"/>
                </a:solidFill>
                <a:latin typeface="Arial"/>
              </a:rPr>
              <a:t>Thank you for at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CD89-730E-4558-97BA-A71B18B227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nvestors decide to invest into proje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pro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 effectiveness is measured in money, non economic effects cannot be directly included in to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investors orientat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effect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19280" y="1268280"/>
            <a:ext cx="719280" cy="144720"/>
          </a:xfrm>
          <a:prstGeom prst="rightArrow">
            <a:avLst>
              <a:gd name="adj1" fmla="val 50000"/>
              <a:gd name="adj2" fmla="val 12425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268280"/>
            <a:ext cx="719280" cy="144720"/>
          </a:xfrm>
          <a:prstGeom prst="rightArrow">
            <a:avLst>
              <a:gd name="adj1" fmla="val 50000"/>
              <a:gd name="adj2" fmla="val 12425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9FDA-2C66-4506-A51E-D3683F9AF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523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e of return as the main target of inves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14040"/>
            <a:ext cx="85770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ization of economic welfare as the main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 of scare resources – money for investments are also scarc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do investors inves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return ? (real money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nal investors compare initial investment with money generated by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s for decision are cash flows – results of project 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project to choos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6A79-9AFF-4746-BE07-5401463B47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effects generated by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857700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ision of economic effects generated by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points of view for economic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(respects total economic effects, division of effects is not taken into account – no taxes, no fina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of view of total capital (equity + debt capital) – taxes respected, no fina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of view of investors (taxes and financing res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nicip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4796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419640" y="1412640"/>
            <a:ext cx="2016000" cy="1513080"/>
            <a:chOff x="3419640" y="1412640"/>
            <a:chExt cx="2016000" cy="1513080"/>
          </a:xfrm>
        </p:grpSpPr>
        <p:sp>
          <p:nvSpPr>
            <p:cNvPr id="542" name=""/>
            <p:cNvSpPr/>
            <p:nvPr/>
          </p:nvSpPr>
          <p:spPr>
            <a:xfrm>
              <a:off x="3564000" y="1413000"/>
              <a:ext cx="1582560" cy="1512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3419640" y="1412640"/>
              <a:ext cx="2016000" cy="1500120"/>
              <a:chOff x="3419640" y="1412640"/>
              <a:chExt cx="2016000" cy="150012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3780000" y="2133360"/>
                <a:ext cx="576000" cy="5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56000" y="2133360"/>
                <a:ext cx="7905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>
                <a:off x="4282560" y="1412640"/>
                <a:ext cx="73080" cy="72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067280" y="2205000"/>
                <a:ext cx="93492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t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tax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27640" y="1701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vest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419640" y="1485720"/>
                <a:ext cx="12952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an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interes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3868-DD04-473F-B877-6FB1F7514F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sion of non economic effects into “system” decision - externalit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796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8004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434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573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77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on the environment (air, water, …, ecosystems, biodiversity, etc.; human health and quality of life, incl. social aspects) that are not included in cost of production and finally in prices – but these effects are borne by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damages, negative influence to the human health, increased death ra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ocial and economic impacts – e.g. loss of recreation possibility, loss of possibility to see “last bea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ities can be either positive of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pproximation of non economic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C107-59FE-4F42-9C56-C40F7A0C60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sion of non economic effects into “system” decision – externalitie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effects of given common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irect utilization (e.g. walk in for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opportunity to dec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preservation (awareness of irreversi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of financial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bjective” – direct - methods – e.g. decrease of crop yields due to acid deposition, problem of damage function definition, problem of postponed effects, problem of cost – effect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Indirect methods” (shadow prices) – e.g. decrease of real estate value due to worsen quality of air, differences in labour force price (extra charges in risk jobs), cost of transportation and/or (e.g. travel to national parks for recre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gent evaluation: based on questionnaires for evaluation of common goods value – e.g. value of decrease of biodiversity, protection endangered animals. etc  (very sub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ngness –to-pay: e.g. for improvement of quality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ngness-to-accept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ADD9-5AA6-43A7-922D-F1272A972F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sion of non economic effects into “system” decision – externalitie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cost for given fuel cycle differs due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or states, regions – loc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meteorologic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eco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nd cost of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cost of electricity generation (cE/kW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8"/>
          <a:srcRect l="2449" t="0" r="11017" b="0"/>
          <a:stretch/>
        </p:blipFill>
        <p:spPr>
          <a:xfrm>
            <a:off x="539640" y="4508640"/>
            <a:ext cx="8064720" cy="22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77BD-3282-47DC-A5D5-8CFE505CEC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h flow calculation – dir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revenues (sold electricity, energy sav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n draw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expenses (material, fuel and energy, maintenance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or c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ú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id interest (cost of foreign capital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m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x depre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,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able (+) deductible (-) items for income tax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nses for inventory purcha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bt re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v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paid from equity 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me tax r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s of assessment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835280" y="1125360"/>
                <a:ext cx="51940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ú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vl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92" name="" descr=""/>
          <p:cNvPicPr/>
          <p:nvPr/>
        </p:nvPicPr>
        <p:blipFill>
          <a:blip r:embed="rId6"/>
          <a:stretch/>
        </p:blipFill>
        <p:spPr>
          <a:xfrm>
            <a:off x="2050920" y="3645000"/>
            <a:ext cx="3529080" cy="47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CD11-8C45-40A6-B8B5-36B300C56A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0:54:08Z</dcterms:created>
  <dc:creator>XY</dc:creator>
  <dc:description/>
  <dc:language>en-US</dc:language>
  <cp:lastModifiedBy>XY</cp:lastModifiedBy>
  <dcterms:modified xsi:type="dcterms:W3CDTF">2006-07-13T07:18:08Z</dcterms:modified>
  <cp:revision>38</cp:revision>
  <dc:subject/>
  <dc:title>FACTORS INFLUENCING ECONOMICS OF SHORT ROTATION COPPICE</dc:title>
</cp:coreProperties>
</file>